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67C-0FC4-4C7E-A85D-56AA331C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D8D-B6EF-4371-9AE2-AEB65A0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0DA-13F5-4D05-8FBD-41D8D6FE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FD2-7C4B-4420-88FB-DA137946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813-FBAD-450B-89AD-75E82EB9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1D1-1249-46ED-A5A4-AFEA413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2CF-9BE4-4637-BECC-92357555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CB0-E26D-4922-B766-E34D7154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5F1-3329-4F46-8504-ABA337B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B9E-5B5F-4A3B-B045-65E7AF88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0B4-A17F-4C75-8A96-773830A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BF2-CE12-470C-97FC-11D47CB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FD06-678C-4D31-9745-70912862A71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718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Citation 1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1916280"/>
            <a:ext cx="71294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cf6f6"/>
                </a:solidFill>
                <a:latin typeface="Comic Sans MS"/>
              </a:rPr>
              <a:t>«Voilà l’image de ce procès.  Tout est vrai et rien n’est vrai 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Page 9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718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Citation 2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557360"/>
            <a:ext cx="71294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f6f6"/>
                </a:solidFill>
                <a:latin typeface="Comic Sans MS"/>
              </a:rPr>
              <a:t>«J’ai senti alors quelque chose qui soulevait toute la salle et, pour la première fois, j’ai compris que j’étais coupable. 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Page 9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718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Citation 3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7" name=""/>
          <p:cNvSpPr/>
          <p:nvPr/>
        </p:nvSpPr>
        <p:spPr>
          <a:xfrm>
            <a:off x="142920" y="1557360"/>
            <a:ext cx="752472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cf6f6"/>
                </a:solidFill>
                <a:latin typeface="Comic Sans MS"/>
              </a:rPr>
              <a:t>«Enfin, est-il accusé d’avoir enterré sa mère ou d’avoir tué un homme? 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f6f6"/>
                </a:solidFill>
                <a:latin typeface="Comic Sans MS"/>
              </a:rPr>
              <a:t>Page 9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badgers</cp:lastModifiedBy>
  <dcterms:modified xsi:type="dcterms:W3CDTF">2006-10-05T13:31:21Z</dcterms:modified>
  <cp:revision>9</cp:revision>
  <dc:subject/>
  <dc:title>Les thèmes du récit</dc:title>
</cp:coreProperties>
</file>